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FCA586-F4C0-4710-A732-8D3D133CC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868A5E-E4D1-4F0C-9625-5B3CE1A28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FD5277-9995-4D79-A35C-AD8E721488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AEE521-92AE-4DA0-9E26-4FC20066C9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B7FA3-5814-4A8B-B80E-72FA29766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776B8-A09B-4EB9-A021-A1975CB7F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34DDE-AE28-42B7-81C1-E5E05DA5A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7F0EC-468E-4041-B199-C9D725F0F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25797-890F-4889-A07B-2D733538F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5EB25-E2AD-4785-A618-3CD5F8AA8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DE82D-4A89-42E9-B04C-4FD3D2831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C2C0A1-AD9C-42F4-8CA6-FFF338223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B86F7-F9F1-4DEE-9C27-C7E2E4949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0842C-03D8-404A-A177-D2AE79044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4D0F5-C721-4FA6-A535-9FEAB0EBA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CF8BD-9093-4C21-AFD0-4BF3326ED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A3DC60-8A96-491D-888B-C29FE16A4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CB6CC2-A4D8-4332-AEDB-AD31DCE11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8231C5-0686-4183-86FD-4555D96B7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D50AA3-8DC3-4E5E-A5AE-39FBF2D71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01F5B2-6396-4613-BC7E-849DF4040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6E724B-909D-491D-BAD3-569AFA1D7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13303-0082-4BEE-BB99-3C807D9AD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AACB67-5DBC-4122-8D1E-0DBC4264BC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A030-BE6B-451B-96B3-F2F976843D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F181-4FA1-4404-AFA9-E3D6B9BD67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5000" spc="-1" strike="noStrike">
                <a:solidFill>
                  <a:srgbClr val="ffffff"/>
                </a:solidFill>
                <a:latin typeface="Arial"/>
              </a:rPr>
              <a:t>L’analyse de discours</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400" spc="-1" strike="noStrike">
                <a:solidFill>
                  <a:srgbClr val="000000"/>
                </a:solidFill>
                <a:latin typeface="Arial"/>
              </a:rPr>
              <a:t>Chapitre VI. Analyse de données qualitativ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Production de données</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a grille d’analyse doit être ordonnée entre thèmes principaux et thèmes secondaire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a grille d’analyse est un outil explicatif et non d’exploration. Produire des résultats et non des donnée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écouper les énoncés correspondants aux thèmes identifiés et les class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Analyse propositionnelle du discours (APD)</a:t>
            </a: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Repose sur un découpage et codage systématique du discours.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Elle définit l’unité sémantique d’analyse et ne propose aucune catégorisation a priori.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Principe de base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ut texte est considéré comme étant constitué d’un ensemble de propositions. Chacune = l’unité sémantique d’analys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oute proposition réalise sa fonction de sens en associant un argument et un prédic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xemple</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oit les 5 propositions : </a:t>
            </a:r>
            <a:endParaRPr b="0" lang="en-US" sz="2000" spc="-1" strike="noStrike">
              <a:solidFill>
                <a:srgbClr val="000000"/>
              </a:solidFill>
              <a:latin typeface="Arial"/>
            </a:endParaRPr>
          </a:p>
          <a:p>
            <a:pPr lvl="1" marL="990720" indent="-533520">
              <a:lnSpc>
                <a:spcPct val="80000"/>
              </a:lnSpc>
              <a:spcBef>
                <a:spcPts val="45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La mer est bleue</a:t>
            </a:r>
            <a:endParaRPr b="0" lang="en-US" sz="1800" spc="-1" strike="noStrike">
              <a:solidFill>
                <a:srgbClr val="000000"/>
              </a:solidFill>
              <a:latin typeface="Arial"/>
            </a:endParaRPr>
          </a:p>
          <a:p>
            <a:pPr lvl="1" marL="990720" indent="-533520">
              <a:lnSpc>
                <a:spcPct val="80000"/>
              </a:lnSpc>
              <a:spcBef>
                <a:spcPts val="45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égis mange des pâtes</a:t>
            </a:r>
            <a:endParaRPr b="0" lang="en-US" sz="1800" spc="-1" strike="noStrike">
              <a:solidFill>
                <a:srgbClr val="000000"/>
              </a:solidFill>
              <a:latin typeface="Arial"/>
            </a:endParaRPr>
          </a:p>
          <a:p>
            <a:pPr lvl="1" marL="990720" indent="-533520">
              <a:lnSpc>
                <a:spcPct val="80000"/>
              </a:lnSpc>
              <a:spcBef>
                <a:spcPts val="45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égis mange des pâtes dans la cuisine</a:t>
            </a:r>
            <a:endParaRPr b="0" lang="en-US" sz="1800" spc="-1" strike="noStrike">
              <a:solidFill>
                <a:srgbClr val="000000"/>
              </a:solidFill>
              <a:latin typeface="Arial"/>
            </a:endParaRPr>
          </a:p>
          <a:p>
            <a:pPr lvl="1" marL="990720" indent="-533520">
              <a:lnSpc>
                <a:spcPct val="80000"/>
              </a:lnSpc>
              <a:spcBef>
                <a:spcPts val="45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arce que Régis a faim</a:t>
            </a:r>
            <a:endParaRPr b="0" lang="en-US" sz="1800" spc="-1" strike="noStrike">
              <a:solidFill>
                <a:srgbClr val="000000"/>
              </a:solidFill>
              <a:latin typeface="Arial"/>
            </a:endParaRPr>
          </a:p>
          <a:p>
            <a:pPr lvl="1" marL="990720" indent="-533520">
              <a:lnSpc>
                <a:spcPct val="80000"/>
              </a:lnSpc>
              <a:spcBef>
                <a:spcPts val="451"/>
              </a:spcBef>
              <a:buClr>
                <a:srgbClr val="9999cc"/>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Régis croit qu’il est en Italie</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ea typeface="宋体"/>
              </a:rPr>
              <a:t>	</a:t>
            </a:r>
            <a:r>
              <a:rPr b="0" lang="fr-BE" sz="1800" spc="-1" strike="noStrike">
                <a:solidFill>
                  <a:srgbClr val="000000"/>
                </a:solidFill>
                <a:latin typeface="Arial"/>
                <a:ea typeface="宋体"/>
              </a:rPr>
              <a:t>La proposition (a) associe l’argument « la mer » à un prédicat « est bleue ». La proposition (b) pose une relation de </a:t>
            </a:r>
            <a:r>
              <a:rPr b="0" i="1" lang="fr-BE" sz="1800" spc="-1" strike="noStrike">
                <a:solidFill>
                  <a:srgbClr val="000000"/>
                </a:solidFill>
                <a:latin typeface="Arial"/>
                <a:ea typeface="宋体"/>
              </a:rPr>
              <a:t>factivité</a:t>
            </a:r>
            <a:r>
              <a:rPr b="0" lang="fr-BE" sz="1800" spc="-1" strike="noStrike">
                <a:solidFill>
                  <a:srgbClr val="000000"/>
                </a:solidFill>
                <a:latin typeface="Arial"/>
                <a:ea typeface="宋体"/>
              </a:rPr>
              <a:t> entre l’</a:t>
            </a:r>
            <a:r>
              <a:rPr b="0" i="1" lang="fr-BE" sz="1800" spc="-1" strike="noStrike">
                <a:solidFill>
                  <a:srgbClr val="000000"/>
                </a:solidFill>
                <a:latin typeface="Arial"/>
                <a:ea typeface="宋体"/>
              </a:rPr>
              <a:t>actant </a:t>
            </a:r>
            <a:r>
              <a:rPr b="0" lang="fr-BE" sz="1800" spc="-1" strike="noStrike">
                <a:solidFill>
                  <a:srgbClr val="000000"/>
                </a:solidFill>
                <a:latin typeface="Arial"/>
                <a:ea typeface="宋体"/>
              </a:rPr>
              <a:t>« Régis » et l’</a:t>
            </a:r>
            <a:r>
              <a:rPr b="0" i="1" lang="fr-BE" sz="1800" spc="-1" strike="noStrike">
                <a:solidFill>
                  <a:srgbClr val="000000"/>
                </a:solidFill>
                <a:latin typeface="Arial"/>
                <a:ea typeface="宋体"/>
              </a:rPr>
              <a:t>acté</a:t>
            </a:r>
            <a:r>
              <a:rPr b="0" lang="fr-BE" sz="1800" spc="-1" strike="noStrike">
                <a:solidFill>
                  <a:srgbClr val="000000"/>
                </a:solidFill>
                <a:latin typeface="Arial"/>
                <a:ea typeface="宋体"/>
              </a:rPr>
              <a:t> « pâtes ». La proposition (c) établit en outre une relation avec un objet circonstant « la cuisine ». Dans la proposition (d), la proposition (c) est reliée à la proposition (d) par un </a:t>
            </a:r>
            <a:r>
              <a:rPr b="0" i="1" lang="fr-BE" sz="1800" spc="-1" strike="noStrike">
                <a:solidFill>
                  <a:srgbClr val="000000"/>
                </a:solidFill>
                <a:latin typeface="Arial"/>
                <a:ea typeface="宋体"/>
              </a:rPr>
              <a:t>joncteur</a:t>
            </a:r>
            <a:r>
              <a:rPr b="0" lang="fr-BE" sz="1800" spc="-1" strike="noStrike">
                <a:solidFill>
                  <a:srgbClr val="000000"/>
                </a:solidFill>
                <a:latin typeface="Arial"/>
                <a:ea typeface="宋体"/>
              </a:rPr>
              <a:t> « parce que ». La proposition (e) pose une relation de déclarativité (« il croit que ») et comporte un </a:t>
            </a:r>
            <a:r>
              <a:rPr b="0" i="1" lang="fr-BE" sz="1800" spc="-1" strike="noStrike">
                <a:solidFill>
                  <a:srgbClr val="000000"/>
                </a:solidFill>
                <a:latin typeface="Arial"/>
                <a:ea typeface="宋体"/>
              </a:rPr>
              <a:t>modalisateur</a:t>
            </a:r>
            <a:r>
              <a:rPr b="0" lang="fr-BE" sz="1800" spc="-1" strike="noStrike">
                <a:solidFill>
                  <a:srgbClr val="000000"/>
                </a:solidFill>
                <a:latin typeface="Arial"/>
                <a:ea typeface="宋体"/>
              </a:rPr>
              <a:t> (vra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Un discours = description du monde par l’enchaînement des propositions qui relient les objets entre eux ou leur attribuent des propriété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APD vise à étudier et décrire cette construction par 2 procédé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On réduit des propositions d’un texte à des unités plus abstraites (= modèles argumentatif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On cherche à </a:t>
            </a:r>
            <a:r>
              <a:rPr b="0" i="1" lang="fr-BE" sz="2400" spc="-1" strike="noStrike">
                <a:solidFill>
                  <a:srgbClr val="000000"/>
                </a:solidFill>
                <a:latin typeface="Arial"/>
              </a:rPr>
              <a:t>délinéariser</a:t>
            </a:r>
            <a:r>
              <a:rPr b="0" lang="fr-BE" sz="2400" spc="-1" strike="noStrike">
                <a:solidFill>
                  <a:srgbClr val="000000"/>
                </a:solidFill>
                <a:latin typeface="Arial"/>
              </a:rPr>
              <a:t> le tex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APD vise à analyser l’image du monde produit par le discours en privilégiant les relations que le discours établit entre les objets: </a:t>
            </a:r>
            <a:endParaRPr b="0" lang="en-US" sz="2800" spc="-1" strike="noStrike">
              <a:solidFill>
                <a:srgbClr val="000000"/>
              </a:solidFill>
              <a:latin typeface="Arial"/>
            </a:endParaRPr>
          </a:p>
          <a:p>
            <a:pPr lvl="1" marL="743040" indent="-285840">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Arial"/>
                <a:ea typeface="宋体"/>
              </a:rPr>
              <a:t>les objets sont représentés par des référents et les objets principaux du discours sont appelés référents noyaux ou RN</a:t>
            </a:r>
            <a:endParaRPr b="0" lang="en-US" sz="2500" spc="-1" strike="noStrike">
              <a:solidFill>
                <a:srgbClr val="000000"/>
              </a:solidFill>
              <a:latin typeface="Arial"/>
            </a:endParaRPr>
          </a:p>
          <a:p>
            <a:pPr lvl="1" marL="743040" indent="-285840">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Arial"/>
                <a:ea typeface="宋体"/>
              </a:rPr>
              <a:t>les relations sont représentées par des verbes ; les types de relations entre les objets sont définis par les classes prédicatives (par exemple verbes actifs, statifs ou déclaratifs : F, S ou 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Production de résultats</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宋体"/>
              </a:rPr>
              <a:t>La procédure d’analyse consiste donc successivement à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宋体"/>
              </a:rPr>
              <a:t>découper le texte en proposition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宋体"/>
              </a:rPr>
              <a:t>définir les référents noyaux (RN) de ce texte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宋体"/>
              </a:rPr>
              <a:t>écrire pour chaque proposition le modèle argumentatif correspondant, soit éventuellement le type de joncteur suivi du RN actant ou X si l’actant de la proposition ne correspond pas à un RN référencé, suivi du modalisateur éventuel, suivi du type de verbe (F,S ou D), suivi du RN acté, ou Y si l’acté de la proposition ne correspond pas à un RN référencé et éventuellement suivi d’un circonstan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宋体"/>
              </a:rPr>
              <a:t>constituer un fichier de type « base de données » composée de sept colonnes définissant les champs suivant : numéro de la proposition, joncteur, acteur, modalisateur, prédicat, actés, circonstan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宋体"/>
              </a:rPr>
              <a:t>faire un tri croisé entre les colonnes, permettant de calculer les fréquences d’occurrence conjointe et les taux de liaison des différents éléments pris en compte</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宋体"/>
              </a:rPr>
              <a:t>analyse les relations positives mises en évidence</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宋体"/>
              </a:rPr>
              <a:t>construire éventuellement un graphe de ces liaisons pour donner une « image du monde référentiel » mis en discours par le ou les locuteur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Exemple</a:t>
            </a:r>
            <a:br>
              <a:rPr sz="4000"/>
            </a:br>
            <a:r>
              <a:rPr b="0" lang="fr-BE" sz="4000" spc="-1" strike="noStrike">
                <a:solidFill>
                  <a:srgbClr val="000000"/>
                </a:solidFill>
                <a:latin typeface="Arial"/>
              </a:rPr>
              <a:t>(idem dia 5): découpage</a:t>
            </a:r>
            <a:endParaRPr b="0" lang="en-US" sz="40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ça [l’héritage] s’est passé en deux temps</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à savoir que mes parents possédaient un terrain et une maison</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Alors donc à la mort de mon père, ma mère a d’abord vendu le terrain</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parce que ça ne l’intéressait pas de le garder</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Il fallait l’exploiter</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il fallait payer les lots</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Il fallait payer] tout ce qu’il comportait</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Il fallait payer[ tout ce qui était dessus [le terrain]</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C’était un terrain avec tous les branchements.</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Donc elle a décidé de le vendre</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On l’a donc mis en vente à la mort de mon père</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On était deux</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ça [la vente] a pas posé de problème majeur hein</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après ça, après la vente du terrain, ma mère restait donc dans sa maison</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et puis il s’est avéré que là aussi il aurait fallu des réparations [dans la maison]</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elle pouvait disons pas la…</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Ce qu’on lui a proposé nous c’est de la vendre [la maison]</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ou de la louer</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et puis de racheter autre chose</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de se remettre quelque part après.</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Ca ne l’a pas intéressée,</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donc elle a vendu la maison</a:t>
            </a:r>
            <a:endParaRPr b="0" lang="en-US" sz="1200" spc="-1" strike="noStrike">
              <a:solidFill>
                <a:srgbClr val="000000"/>
              </a:solidFill>
              <a:latin typeface="Arial"/>
            </a:endParaRPr>
          </a:p>
          <a:p>
            <a:pPr marL="548280" indent="-548280">
              <a:lnSpc>
                <a:spcPct val="80000"/>
              </a:lnSpc>
              <a:spcBef>
                <a:spcPts val="3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on a hérité à la fois d’un terrain et d’une maison à peu près à deux ans d’interval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xemple : codage</a:t>
            </a:r>
            <a:endParaRPr b="0" lang="en-US" sz="4400" spc="-1" strike="noStrike">
              <a:solidFill>
                <a:srgbClr val="000000"/>
              </a:solidFill>
              <a:latin typeface="Arial"/>
            </a:endParaRPr>
          </a:p>
        </p:txBody>
      </p:sp>
      <p:sp>
        <p:nvSpPr>
          <p:cNvPr id="1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RN  (référents noyaux) :</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H = héritage</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M = Mère</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P = parents, père</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T = terrain</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V = vente</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m = maison</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h = héritiers</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P(+) = mort du père</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X = actant non référencé</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Y = acté non référencé</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Z = circonstant non référencé</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Autres symboles : </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 = additif</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Wingdings"/>
                <a:ea typeface="Wingdings"/>
              </a:rPr>
              <a:t></a:t>
            </a:r>
            <a:r>
              <a:rPr b="0" lang="fr-BE" sz="1200" spc="-1" strike="noStrike">
                <a:solidFill>
                  <a:srgbClr val="000000"/>
                </a:solidFill>
                <a:latin typeface="Arial"/>
                <a:ea typeface="宋体"/>
              </a:rPr>
              <a:t>= causal</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 = explicatif</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gt; = temporel</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 déontique (il faut)</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F = factif</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S = Statif</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D = déclaratif</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Ø = élément vide</a:t>
            </a:r>
            <a:endParaRPr b="0" lang="en-US" sz="1200" spc="-1" strike="noStrike">
              <a:solidFill>
                <a:srgbClr val="000000"/>
              </a:solidFill>
              <a:latin typeface="Arial"/>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ea typeface="宋体"/>
              </a:rPr>
              <a:t>Tout symbole surmonté d’un - est affecté d’une valeur négativ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Analyse</a:t>
            </a:r>
            <a:endParaRPr b="0" lang="en-US" sz="4400" spc="-1" strike="noStrike">
              <a:solidFill>
                <a:srgbClr val="000000"/>
              </a:solidFill>
              <a:latin typeface="Arial"/>
            </a:endParaRPr>
          </a:p>
        </p:txBody>
      </p:sp>
      <p:sp>
        <p:nvSpPr>
          <p:cNvPr id="141"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Tableau (transpar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Cooccurrence actant / acté</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2" name=""/>
          <p:cNvGraphicFramePr/>
          <p:nvPr/>
        </p:nvGraphicFramePr>
        <p:xfrm>
          <a:off x="468360" y="3141720"/>
          <a:ext cx="8229600" cy="2592360"/>
        </p:xfrm>
        <a:graphic>
          <a:graphicData uri="http://schemas.openxmlformats.org/drawingml/2006/table">
            <a:tbl>
              <a:tblPr/>
              <a:tblGrid>
                <a:gridCol w="2057400"/>
                <a:gridCol w="2057400"/>
                <a:gridCol w="2057400"/>
                <a:gridCol w="2057400"/>
              </a:tblGrid>
              <a:tr h="52056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CTA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CT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Terrain (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Maison (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Mère (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Hériti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Mè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2(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1 (+0,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1(-0,5)</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2 (+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4 (+0,4)</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0 (-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Analyse de discours</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nalyse linguistique (</a:t>
            </a:r>
            <a:r>
              <a:rPr b="0" lang="fr-BE" sz="3200" spc="-1" strike="noStrike">
                <a:solidFill>
                  <a:srgbClr val="000000"/>
                </a:solidFill>
                <a:latin typeface="Wingdings"/>
                <a:ea typeface="Wingdings"/>
              </a:rPr>
              <a:t></a:t>
            </a:r>
            <a:r>
              <a:rPr b="0" lang="fr-BE" sz="3200" spc="-1" strike="noStrike">
                <a:solidFill>
                  <a:srgbClr val="000000"/>
                </a:solidFill>
                <a:latin typeface="Arial"/>
              </a:rPr>
              <a:t> forme)</a:t>
            </a:r>
            <a:endParaRPr b="0" lang="en-US" sz="3200" spc="-1" strike="noStrike">
              <a:solidFill>
                <a:srgbClr val="000000"/>
              </a:solidFill>
              <a:latin typeface="Arial"/>
            </a:endParaRPr>
          </a:p>
          <a:p>
            <a:pPr marL="609480" indent="-609480">
              <a:spcBef>
                <a:spcPts val="799"/>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nalyse de contenu (</a:t>
            </a:r>
            <a:r>
              <a:rPr b="0" lang="fr-BE" sz="3200" spc="-1" strike="noStrike">
                <a:solidFill>
                  <a:srgbClr val="000000"/>
                </a:solidFill>
                <a:latin typeface="Wingdings"/>
                <a:ea typeface="Wingdings"/>
              </a:rPr>
              <a:t></a:t>
            </a:r>
            <a:r>
              <a:rPr b="0" lang="fr-BE" sz="3200" spc="-1" strike="noStrike">
                <a:solidFill>
                  <a:srgbClr val="000000"/>
                </a:solidFill>
                <a:latin typeface="Arial"/>
              </a:rPr>
              <a:t> Fond)</a:t>
            </a:r>
            <a:endParaRPr b="0" lang="en-US" sz="3200" spc="-1" strike="noStrike">
              <a:solidFill>
                <a:srgbClr val="000000"/>
              </a:solidFill>
              <a:latin typeface="Arial"/>
            </a:endParaRPr>
          </a:p>
          <a:p>
            <a:pPr lvl="1" marL="990720" indent="-533520">
              <a:spcBef>
                <a:spcPts val="700"/>
              </a:spcBef>
              <a:buClr>
                <a:srgbClr val="9999cc"/>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nalyse par entretien</a:t>
            </a:r>
            <a:endParaRPr b="0" lang="en-US" sz="2800" spc="-1" strike="noStrike">
              <a:solidFill>
                <a:srgbClr val="000000"/>
              </a:solidFill>
              <a:latin typeface="Arial"/>
            </a:endParaRPr>
          </a:p>
          <a:p>
            <a:pPr lvl="1" marL="990720" indent="-533520">
              <a:spcBef>
                <a:spcPts val="700"/>
              </a:spcBef>
              <a:buClr>
                <a:srgbClr val="9999cc"/>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nalyse thématique</a:t>
            </a:r>
            <a:endParaRPr b="0" lang="en-US" sz="2800" spc="-1" strike="noStrike">
              <a:solidFill>
                <a:srgbClr val="000000"/>
              </a:solidFill>
              <a:latin typeface="Arial"/>
            </a:endParaRPr>
          </a:p>
          <a:p>
            <a:pPr lvl="1" marL="990720" indent="-533520">
              <a:spcBef>
                <a:spcPts val="700"/>
              </a:spcBef>
              <a:buClr>
                <a:srgbClr val="9999cc"/>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nalyse Propositionnelle du Discours (APD)</a:t>
            </a:r>
            <a:endParaRPr b="0" lang="en-US" sz="2800" spc="-1" strike="noStrike">
              <a:solidFill>
                <a:srgbClr val="000000"/>
              </a:solidFill>
              <a:latin typeface="Arial"/>
            </a:endParaRPr>
          </a:p>
          <a:p>
            <a:pPr lvl="1" marL="990720" indent="-533520">
              <a:spcBef>
                <a:spcPts val="700"/>
              </a:spcBef>
              <a:buClr>
                <a:srgbClr val="9999cc"/>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Résumé Vs Analyse de Contenu</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ésumé</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Neutr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Photographie simplifiée du tex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idélité maximale aux énoncé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Sauvegarde la complexité du tex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onction de sto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Résumé Vs Analyse de contenu</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Analyse de contenu</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mplique des hypothès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cture orienté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Ignore la cohérence du tex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Vise la simplification des contenu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Produire un effet d’intelligibilité et part d’interprét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xemple</a:t>
            </a:r>
            <a:endParaRPr b="0" lang="en-US" sz="4400" spc="-1" strike="noStrike">
              <a:solidFill>
                <a:srgbClr val="000000"/>
              </a:solidFill>
              <a:latin typeface="Arial"/>
            </a:endParaRPr>
          </a:p>
        </p:txBody>
      </p:sp>
      <p:sp>
        <p:nvSpPr>
          <p:cNvPr id="115" name="PlaceHolder 2"/>
          <p:cNvSpPr>
            <a:spLocks noGrp="1"/>
          </p:cNvSpPr>
          <p:nvPr>
            <p:ph/>
          </p:nvPr>
        </p:nvSpPr>
        <p:spPr>
          <a:xfrm>
            <a:off x="468360" y="1601280"/>
            <a:ext cx="8229600" cy="5256360"/>
          </a:xfrm>
          <a:prstGeom prst="rect">
            <a:avLst/>
          </a:prstGeom>
          <a:noFill/>
          <a:ln w="0">
            <a:noFill/>
          </a:ln>
        </p:spPr>
        <p:txBody>
          <a:bodyPr lIns="90000" rIns="90000" tIns="46800" bIns="46800"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宋体"/>
              </a:rPr>
              <a:t>	</a:t>
            </a:r>
            <a:r>
              <a:rPr b="0" lang="fr-BE" sz="2400" spc="-1" strike="noStrike">
                <a:solidFill>
                  <a:srgbClr val="000000"/>
                </a:solidFill>
                <a:latin typeface="Palatino Linotype"/>
                <a:ea typeface="宋体"/>
              </a:rPr>
              <a:t>« </a:t>
            </a:r>
            <a:r>
              <a:rPr b="0" i="1" lang="fr-BE" sz="2400" spc="-1" strike="noStrike">
                <a:solidFill>
                  <a:srgbClr val="000000"/>
                </a:solidFill>
                <a:latin typeface="Palatino Linotype"/>
                <a:ea typeface="宋体"/>
              </a:rPr>
              <a:t>Ca s’est passé d’abord en deux temps, à savoir que mes parents possédaient un terrain et une maison. Alors donc à la mort de mon père, ma mère a d’abord vendu le terrain parce que ça ne l’intéressait pas de le garder. Il fallait l’exploiter, il fallait payer les lots, tout ce qu’il comportait, tout ce qui était dessus, c’était un terrain avec tous les branchements…Donc elle a décidé de le vendre. On l’a donc mis en vente à la mort de mon père. On était deux, ça a pas posé de problème majeur hein…Bon après ça, après la vente du terrain, ma mère restait donc dans sa maison, et puis il s’est avéré que là aussi il aurait fallu des réparations, elle pouvait disons pas la…Ce qu’on lui a proposé nous c’est de la vendre ou de la louer et puis de racheter autre chose, de se remettre quelque part après. Ca ne l’a pas intéressé, donc elle a vendu la maison…Après…Donc on a hérité à la fois d’un terrain et d’une maison à peu près à deux ans d’intervalle…Alors qu’est-ce que vous voudriez savoir…Autre chose ?</a:t>
            </a:r>
            <a:r>
              <a:rPr b="0" lang="fr-BE" sz="2400" spc="-1" strike="noStrike">
                <a:solidFill>
                  <a:srgbClr val="000000"/>
                </a:solidFill>
                <a:latin typeface="Palatino Linotype"/>
                <a:ea typeface="宋体"/>
              </a:rPr>
              <a:t> » (Blanchet &amp; Gotman, 2005 : 92-93)</a:t>
            </a:r>
            <a:r>
              <a:rPr b="0" lang="fr-FR"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analyse par entretien</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Hypothèse de base : chaque singularité est porteuse du processus (psy ou sociologique) que l’on veut analys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e justifie chaque fois qu’on étudie des processus, des modes d’organisation individuelle ou collective, etc.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Se prête aussi aux histoires de famille (ex. mobilité social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000" spc="-1" strike="noStrike">
                <a:solidFill>
                  <a:srgbClr val="000000"/>
                </a:solidFill>
                <a:latin typeface="Arial"/>
              </a:rPr>
              <a:t>Ex. L’héritage, la transmission intra-générationnelle</a:t>
            </a:r>
            <a:endParaRPr b="0" lang="en-US" sz="40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Reproduction sociale pas automatiqu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Identifier des moments clés dans le récit de vi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Moments clés spécifiés à partir d’indicateurs concre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Analyse thématique</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Défait la singularité du discours et découpe transversalement ce qui, d’un entretien à l’autre, se réfère au même thème. Ignore la cohérence singulière d’un même thèm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Arial"/>
              </a:rPr>
              <a:t>L’analyse par entretien est une sorte d’analyse thématique vertic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Production de données</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Lecture des entretiens un par un. Prendre connaissance du corpu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Grille d’analyse thématique élaborée sur base des hypothèses de recherche éventuellement reformulées après lecture des entretien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Si entretiens exploratoires, l’identification des thèmes se fait quasi exclusivement à partir de la lecture du corp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2:53:11Z</dcterms:created>
  <dc:creator>Pirotte Gauthier</dc:creator>
  <dc:description/>
  <dc:language>en-US</dc:language>
  <cp:lastModifiedBy>Pirotte Gauthier</cp:lastModifiedBy>
  <dcterms:modified xsi:type="dcterms:W3CDTF">2007-03-08T14:18:16Z</dcterms:modified>
  <cp:revision>4</cp:revision>
  <dc:subject/>
  <dc:title>L’analyse de discours</dc:title>
</cp:coreProperties>
</file>